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gif" ContentType="image/gif"/>
  <Override PartName="/ppt/media/image17.wmf" ContentType="image/x-wmf"/>
  <Override PartName="/ppt/media/image55.wmf" ContentType="image/x-wmf"/>
  <Override PartName="/ppt/media/image54.wmf" ContentType="image/x-wmf"/>
  <Override PartName="/ppt/media/image29.gif" ContentType="image/gif"/>
  <Override PartName="/ppt/media/image56.gif" ContentType="image/gif"/>
  <Override PartName="/ppt/media/image16.wmf" ContentType="image/x-wmf"/>
  <Override PartName="/ppt/media/image52.wmf" ContentType="image/x-wmf"/>
  <Override PartName="/ppt/media/image51.gif" ContentType="image/gif"/>
  <Override PartName="/ppt/media/image50.gif" ContentType="image/gif"/>
  <Override PartName="/ppt/media/image53.png" ContentType="image/png"/>
  <Override PartName="/ppt/media/image49.wmf" ContentType="image/x-wmf"/>
  <Override PartName="/ppt/media/image47.wmf" ContentType="image/x-wmf"/>
  <Override PartName="/ppt/media/image45.gif" ContentType="image/gif"/>
  <Override PartName="/ppt/media/image46.gif" ContentType="image/gif"/>
  <Override PartName="/ppt/media/image42.wmf" ContentType="image/x-wmf"/>
  <Override PartName="/ppt/media/image41.gif" ContentType="image/gif"/>
  <Override PartName="/ppt/media/image44.gif" ContentType="image/gif"/>
  <Override PartName="/ppt/media/image40.wmf" ContentType="image/x-wmf"/>
  <Override PartName="/ppt/media/image37.wmf" ContentType="image/x-wmf"/>
  <Override PartName="/ppt/media/image36.wmf" ContentType="image/x-wmf"/>
  <Override PartName="/ppt/media/image33.gif" ContentType="image/gif"/>
  <Override PartName="/ppt/media/image14.wmf" ContentType="image/x-wmf"/>
  <Override PartName="/ppt/media/image18.wmf" ContentType="image/x-wmf"/>
  <Override PartName="/ppt/media/image25.wmf" ContentType="image/x-wmf"/>
  <Override PartName="/ppt/media/image71.gif" ContentType="image/gif"/>
  <Override PartName="/ppt/media/image22.png" ContentType="image/png"/>
  <Override PartName="/ppt/media/image27.wmf" ContentType="image/x-wmf"/>
  <Override PartName="/ppt/media/image67.gif" ContentType="image/gif"/>
  <Override PartName="/ppt/media/image30.gif" ContentType="image/gif"/>
  <Override PartName="/ppt/media/image64.gif" ContentType="image/gif"/>
  <Override PartName="/ppt/media/image24.wmf" ContentType="image/x-wmf"/>
  <Override PartName="/ppt/media/image70.gif" ContentType="image/gif"/>
  <Override PartName="/ppt/media/image59.wmf" ContentType="image/x-wmf"/>
  <Override PartName="/ppt/media/image61.wmf" ContentType="image/x-wmf"/>
  <Override PartName="/ppt/media/image19.wmf" ContentType="image/x-wmf"/>
  <Override PartName="/ppt/media/image28.png" ContentType="image/png"/>
  <Override PartName="/ppt/media/image60.wmf" ContentType="image/x-wmf"/>
  <Override PartName="/ppt/media/image35.gif" ContentType="image/gif"/>
  <Override PartName="/ppt/media/image78.gif" ContentType="image/gif"/>
  <Override PartName="/ppt/media/image74.wmf" ContentType="image/x-wmf"/>
  <Override PartName="/ppt/media/image69.wmf" ContentType="image/x-wmf"/>
  <Override PartName="/ppt/media/image77.wmf" ContentType="image/x-wmf"/>
  <Override PartName="/ppt/media/image65.wmf" ContentType="image/x-wmf"/>
  <Override PartName="/ppt/media/image2.gif" ContentType="image/gif"/>
  <Override PartName="/ppt/media/image32.gif" ContentType="image/gif"/>
  <Override PartName="/ppt/media/image76.wmf" ContentType="image/x-wmf"/>
  <Override PartName="/ppt/media/image23.wmf" ContentType="image/x-wmf"/>
  <Override PartName="/ppt/media/image62.gif" ContentType="image/gif"/>
  <Override PartName="/ppt/media/image80.jpeg" ContentType="image/jpeg"/>
  <Override PartName="/ppt/media/image66.gif" ContentType="image/gif"/>
  <Override PartName="/ppt/media/image26.wmf" ContentType="image/x-wmf"/>
  <Override PartName="/ppt/media/image75.gif" ContentType="image/gif"/>
  <Override PartName="/ppt/media/image73.wmf" ContentType="image/x-wmf"/>
  <Override PartName="/ppt/media/image72.wmf" ContentType="image/x-wmf"/>
  <Override PartName="/ppt/media/image68.gif" ContentType="image/gif"/>
  <Override PartName="/ppt/media/image31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34.gif" ContentType="image/gif"/>
  <Override PartName="/ppt/media/image9.wmf" ContentType="image/x-wmf"/>
  <Override PartName="/ppt/media/image39.wmf" ContentType="image/x-wmf"/>
  <Override PartName="/ppt/media/image79.gif" ContentType="image/gif"/>
  <Override PartName="/ppt/media/image11.gif" ContentType="image/gif"/>
  <Override PartName="/ppt/media/image20.wmf" ContentType="image/x-wmf"/>
  <Override PartName="/ppt/media/image5.jpeg" ContentType="image/jpeg"/>
  <Override PartName="/ppt/media/image48.wmf" ContentType="image/x-wmf"/>
  <Override PartName="/ppt/media/image7.gif" ContentType="image/gif"/>
  <Override PartName="/ppt/media/image3.png" ContentType="image/png"/>
  <Override PartName="/ppt/media/image12.gif" ContentType="image/gif"/>
  <Override PartName="/ppt/media/image21.wmf" ContentType="image/x-wmf"/>
  <Override PartName="/ppt/media/type.wav" ContentType="audio/x-wav"/>
  <Override PartName="/ppt/media/image58.wmf" ContentType="image/x-wmf"/>
  <Override PartName="/ppt/media/image8.gif" ContentType="image/gif"/>
  <Override PartName="/ppt/media/image63.wmf" ContentType="image/x-wmf"/>
  <Override PartName="/ppt/media/image38.gif" ContentType="image/gif"/>
  <Override PartName="/ppt/media/image13.gif" ContentType="image/gif"/>
  <Override PartName="/ppt/media/image10.gif" ContentType="image/gif"/>
  <Override PartName="/ppt/media/image6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FCC-4763-402D-9F83-2AEDDB48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2FB-3FB0-4D3D-8DE9-EC938FB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CE8-FE75-473F-B727-C7130E03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335-B679-430C-BD25-25BB6AB1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B6B-21F3-405C-B4CC-64EA96B5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1BD-850E-4F60-882F-BBC14B9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ABE-C181-47D7-8CB3-090A8CF5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EBF9-96B0-4272-B9D9-45A926A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CA30-271C-4EBE-A73F-E4B1DDF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325-7143-497B-8382-FA1AE65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32D-A444-43B7-9CA4-CA32CD7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26-02D9-4DC9-96DE-06DAB65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A988-7E38-4EB3-B882-B0A883A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9FB4-B750-4D0A-8784-4E9F16A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85B8-D14D-4731-8A0A-B21E3AE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380-2E4D-4746-8B5A-3ADEDC25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5F8-1534-4C90-9787-C6FA992C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791-2C45-445F-B008-3D899784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DAD-FAD3-455D-8E75-DC7F621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EFE-807E-4B05-B2F9-94AB787A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9D9-5353-4695-B547-109AF3E3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D95-703F-432F-92C8-24C2E4C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2BC-5AD7-48A4-8E6F-639B12D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71B-35B2-4667-BFFC-B0E64103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FC1-2BEC-4486-83C7-96E7DF499C0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C55-CFA7-4597-ADE8-27F0FBC3AD5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30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6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wmf"/><Relationship Id="rId3" Type="http://schemas.openxmlformats.org/officeDocument/2006/relationships/image" Target="../media/image2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2.gif"/><Relationship Id="rId6" Type="http://schemas.openxmlformats.org/officeDocument/2006/relationships/image" Target="../media/image75.gi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47560" y="3736800"/>
            <a:ext cx="7925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相传，古印度的舍罕王打算重赏国际象棋的发明者——宰相西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达依尔．于是，这位宰相跪在国王面前说：“陛下，请您在这张棋盘的第一个小格内，赏给我一粒麦子；在第二个小格内给两粒，第三格内给四粒，照这样下去，每一小格都比前一小格加一倍．陛下啊，把这样摆满棋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1878120"/>
            <a:ext cx="58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国际象棋与麦粒的故事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39560" y="-17640"/>
            <a:ext cx="2849400" cy="1709640"/>
            <a:chOff x="3139560" y="-17640"/>
            <a:chExt cx="2849400" cy="1709640"/>
          </a:xfrm>
        </p:grpSpPr>
        <p:sp>
          <p:nvSpPr>
            <p:cNvPr id="84" name="filecab3"/>
            <p:cNvSpPr/>
            <p:nvPr/>
          </p:nvSpPr>
          <p:spPr>
            <a:xfrm rot="10800000">
              <a:off x="3139560" y="8535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757320" y="-176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15320" y="1201680"/>
            <a:ext cx="1957320" cy="148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865600" y="946080"/>
            <a:ext cx="3837960" cy="782640"/>
            <a:chOff x="2865600" y="946080"/>
            <a:chExt cx="3837960" cy="78264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5703840" y="94608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865600" y="1059120"/>
              <a:ext cx="26622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62120" y="248292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相同因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积的运算叫做乘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43880" y="40258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92240" y="3795840"/>
            <a:ext cx="5870520" cy="1619280"/>
            <a:chOff x="1992240" y="3795840"/>
            <a:chExt cx="5870520" cy="1619280"/>
          </a:xfrm>
        </p:grpSpPr>
        <p:sp>
          <p:nvSpPr>
            <p:cNvPr id="238" name=""/>
            <p:cNvSpPr/>
            <p:nvPr/>
          </p:nvSpPr>
          <p:spPr>
            <a:xfrm>
              <a:off x="1992240" y="38401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986200" y="3795840"/>
              <a:ext cx="4876560" cy="1619280"/>
              <a:chOff x="2986200" y="3795840"/>
              <a:chExt cx="4876560" cy="161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2986200" y="3795840"/>
                <a:ext cx="487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lang="en-US" sz="4400" spc="-1" strike="noStrike" baseline="30000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6200000">
                <a:off x="5040720" y="2566080"/>
                <a:ext cx="176040" cy="4114440"/>
              </a:xfrm>
              <a:custGeom>
                <a:avLst/>
                <a:gdLst>
                  <a:gd name="textAreaLeft" fmla="*/ 112680 w 176040"/>
                  <a:gd name="textAreaRight" fmla="*/ 176400 w 176040"/>
                  <a:gd name="textAreaTop" fmla="*/ 107280 h 4114440"/>
                  <a:gd name="textAreaBottom" fmla="*/ 4007160 h 411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38320" y="4711680"/>
                <a:ext cx="1371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801880" y="858960"/>
            <a:ext cx="3838680" cy="782640"/>
            <a:chOff x="2801880" y="858960"/>
            <a:chExt cx="3838680" cy="7826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640480" y="858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801880" y="97200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34040" y="2333520"/>
            <a:ext cx="1295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96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4480" y="2781360"/>
            <a:ext cx="2552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任意有理数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48240" y="2333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29280" y="31575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81240" y="3376440"/>
            <a:ext cx="1338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33840" y="27766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652720" y="3540240"/>
            <a:ext cx="12193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38320" y="4437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zh-CN" sz="3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读作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次幂 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688000" y="5543640"/>
            <a:ext cx="1905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05000" y="255420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100160" y="1000080"/>
            <a:ext cx="1003320" cy="501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38280" y="2649600"/>
            <a:ext cx="1550880" cy="501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80960" y="4041720"/>
            <a:ext cx="2144880" cy="5018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93760" y="5095800"/>
            <a:ext cx="2808360" cy="1373760"/>
            <a:chOff x="293760" y="5095800"/>
            <a:chExt cx="2808360" cy="137376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293760" y="5095800"/>
              <a:ext cx="280836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16200000">
              <a:off x="1519200" y="4590720"/>
              <a:ext cx="431640" cy="2305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54720 h 2305080"/>
                <a:gd name="textAreaBottom" fmla="*/ 22503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24"/>
                    <a:pt x="10800" y="1648"/>
                  </a:cubicBezTo>
                  <a:lnTo>
                    <a:pt x="10800" y="8701"/>
                  </a:lnTo>
                  <a:cubicBezTo>
                    <a:pt x="10800" y="9525"/>
                    <a:pt x="5400" y="10349"/>
                    <a:pt x="0" y="10349"/>
                  </a:cubicBezTo>
                  <a:cubicBezTo>
                    <a:pt x="5400" y="10349"/>
                    <a:pt x="10800" y="11173"/>
                    <a:pt x="10800" y="11997"/>
                  </a:cubicBezTo>
                  <a:lnTo>
                    <a:pt x="10800" y="19952"/>
                  </a:lnTo>
                  <a:cubicBezTo>
                    <a:pt x="10800" y="2077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4840" y="58881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496960" y="39387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225960" y="2370240"/>
            <a:ext cx="558720" cy="662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49840" y="676440"/>
            <a:ext cx="288720" cy="1234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2040 h 1234800"/>
              <a:gd name="textAreaBottom" fmla="*/ 1202760 h 12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63"/>
                </a:lnTo>
                <a:cubicBezTo>
                  <a:pt x="10800" y="8863"/>
                  <a:pt x="5400" y="9763"/>
                  <a:pt x="0" y="9763"/>
                </a:cubicBezTo>
                <a:cubicBezTo>
                  <a:pt x="5400" y="9763"/>
                  <a:pt x="10800" y="10663"/>
                  <a:pt x="10800" y="115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4760" y="2279520"/>
            <a:ext cx="298440" cy="1150920"/>
          </a:xfrm>
          <a:custGeom>
            <a:avLst/>
            <a:gdLst>
              <a:gd name="textAreaLeft" fmla="*/ 190800 w 298440"/>
              <a:gd name="textAreaRight" fmla="*/ 298800 w 298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24280"/>
            <a:ext cx="289080" cy="865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78480" y="51339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08160" y="89532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02120" y="52372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6600" y="385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14637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9360" y="880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二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0440" y="19875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立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86440" y="2994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83200" y="2482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三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68760" y="426708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23040" y="348444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四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8600" y="55753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821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00960" y="93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2160" y="391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72600" y="252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0320" y="523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4118040" y="5164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3581280" y="3786120"/>
            <a:ext cx="576360" cy="682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3116160" y="785880"/>
            <a:ext cx="533520" cy="631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7461360" y="600120"/>
            <a:ext cx="1647720" cy="34671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4640" y="1508040"/>
            <a:ext cx="8228160" cy="3646440"/>
            <a:chOff x="404640" y="1508040"/>
            <a:chExt cx="8228160" cy="3646440"/>
          </a:xfrm>
        </p:grpSpPr>
        <p:sp>
          <p:nvSpPr>
            <p:cNvPr id="291" name=""/>
            <p:cNvSpPr/>
            <p:nvPr/>
          </p:nvSpPr>
          <p:spPr>
            <a:xfrm>
              <a:off x="404640" y="1508040"/>
              <a:ext cx="8228160" cy="36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 baseline="5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读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      读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2265480" y="3498840"/>
              <a:ext cx="1065240" cy="9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19440" y="3510000"/>
            <a:ext cx="162576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711440" y="4384800"/>
            <a:ext cx="350640" cy="579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85840" y="1614600"/>
            <a:ext cx="16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560" y="2297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72920" y="2297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×3×3×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7400" y="29192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1312920" y="5045040"/>
            <a:ext cx="205740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5799240" y="4951440"/>
            <a:ext cx="565200" cy="703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98280" y="231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33520" y="438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076400" y="546120"/>
            <a:ext cx="2620440" cy="852480"/>
            <a:chOff x="1076400" y="546120"/>
            <a:chExt cx="2620440" cy="852480"/>
          </a:xfrm>
        </p:grpSpPr>
        <p:sp>
          <p:nvSpPr>
            <p:cNvPr id="304" name=""/>
            <p:cNvSpPr/>
            <p:nvPr/>
          </p:nvSpPr>
          <p:spPr>
            <a:xfrm>
              <a:off x="1544400" y="604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7"/>
            <a:stretch/>
          </p:blipFill>
          <p:spPr>
            <a:xfrm>
              <a:off x="1076400" y="546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4684680" y="593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4648320"/>
            <a:ext cx="6095880" cy="1447560"/>
          </a:xfrm>
          <a:prstGeom prst="wedgeEllipseCallout">
            <a:avLst>
              <a:gd name="adj1" fmla="val -1277"/>
              <a:gd name="adj2" fmla="val -122148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个数可以看作这个数本身的一次方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1905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底数，指数各是多少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895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底数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指数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56000" y="460440"/>
            <a:ext cx="3519360" cy="1185840"/>
            <a:chOff x="2556000" y="460440"/>
            <a:chExt cx="3519360" cy="118584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5122800" y="4604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Cloud"/>
            <p:cNvSpPr/>
            <p:nvPr/>
          </p:nvSpPr>
          <p:spPr>
            <a:xfrm>
              <a:off x="2556000" y="4604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076560" y="6127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7238880" y="2884320"/>
            <a:ext cx="1565280" cy="130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55840" y="2624040"/>
            <a:ext cx="595476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什么异同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600" spc="-1" strike="noStrike" baseline="3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878200" y="920880"/>
            <a:ext cx="3519360" cy="1185840"/>
            <a:chOff x="2878200" y="920880"/>
            <a:chExt cx="3519360" cy="118584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5445000" y="92088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Cloud"/>
            <p:cNvSpPr/>
            <p:nvPr/>
          </p:nvSpPr>
          <p:spPr>
            <a:xfrm>
              <a:off x="2878200" y="92088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398760" y="107316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0040" y="5227560"/>
            <a:ext cx="1865160" cy="1130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7257960" y="2992320"/>
            <a:ext cx="1171800" cy="205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78040" y="2455920"/>
            <a:ext cx="359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289320" y="946080"/>
            <a:ext cx="2770200" cy="947520"/>
            <a:chOff x="3289320" y="946080"/>
            <a:chExt cx="2770200" cy="947520"/>
          </a:xfrm>
        </p:grpSpPr>
        <p:sp>
          <p:nvSpPr>
            <p:cNvPr id="324" name=""/>
            <p:cNvSpPr txBox="1"/>
            <p:nvPr/>
          </p:nvSpPr>
          <p:spPr>
            <a:xfrm>
              <a:off x="3289320" y="11700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5153040" y="9460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38080" y="492768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19320" y="609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：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14440" y="1251000"/>
            <a:ext cx="1838520" cy="1819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1415880" y="4081320"/>
            <a:ext cx="7151760" cy="1339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15880" y="344016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929120" y="609480"/>
            <a:ext cx="3029040" cy="3333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89120" y="974520"/>
            <a:ext cx="8299440" cy="2586600"/>
            <a:chOff x="789120" y="974520"/>
            <a:chExt cx="8299440" cy="2586600"/>
          </a:xfrm>
        </p:grpSpPr>
        <p:sp>
          <p:nvSpPr>
            <p:cNvPr id="334" name=""/>
            <p:cNvSpPr/>
            <p:nvPr/>
          </p:nvSpPr>
          <p:spPr>
            <a:xfrm>
              <a:off x="789120" y="974520"/>
              <a:ext cx="8299440" cy="25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        ；        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 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884240" y="1903320"/>
              <a:ext cx="8654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1055520" y="3483000"/>
            <a:ext cx="78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观察各题的结果，你能发现什么规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4227480"/>
            <a:ext cx="6761160" cy="13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正数的任何次幂是正数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负数的奇次幂是负数，负数的偶次幂是正数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496800"/>
            <a:ext cx="32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计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7000" y="136224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00720" y="121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5020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29280" y="20638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2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1244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139920" y="1903320"/>
            <a:ext cx="266760" cy="863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019320" y="171360"/>
            <a:ext cx="1009800" cy="1152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424400" y="1152360"/>
            <a:ext cx="1758960" cy="1109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62120" y="1549440"/>
            <a:ext cx="3405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731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观察下面两个式子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0280" y="2455920"/>
            <a:ext cx="48924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，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的相反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1214280" y="3746520"/>
            <a:ext cx="2953080" cy="21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618080" y="4216320"/>
            <a:ext cx="4091040" cy="1731960"/>
          </a:xfrm>
          <a:prstGeom prst="wedgeRoundRectCallout">
            <a:avLst>
              <a:gd name="adj1" fmla="val 22023"/>
              <a:gd name="adj2" fmla="val -159625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当底数是负数或分数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数一定要加上括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7164360" y="903240"/>
            <a:ext cx="942840" cy="1257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5800" y="932040"/>
            <a:ext cx="794196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上所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格的麦粒，都赏给您的仆人罢！”国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慷慨地答应了宰相的要求，他下令将一袋麦子拿到宝座前．计数麦粒的工作开始了．第一格内放一粒，第二格两粒，第三格四粒……还没到第二十格，袋子已经空了．一袋又一袋的麦子被扛到国王面前来，但是，麦粒数一格接一格地增长得那么迅速，很快就可以看出，即使拿来全印度的小麦，国王也无法兑现他对宰相许下的诺言！这位聪明的宰相到底要求的是多少麦粒呢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83640" y="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50760" y="1846440"/>
            <a:ext cx="6621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_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1006560"/>
            <a:ext cx="48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口算下列各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66960" y="18464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2000" y="248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612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39800" y="38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37640" y="4454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65880" y="506268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10480" y="2166840"/>
            <a:ext cx="1866960" cy="23446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572240" y="723960"/>
            <a:ext cx="924120" cy="92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3132000" y="630360"/>
            <a:ext cx="2770200" cy="947520"/>
            <a:chOff x="3132000" y="630360"/>
            <a:chExt cx="2770200" cy="947520"/>
          </a:xfrm>
        </p:grpSpPr>
        <p:sp>
          <p:nvSpPr>
            <p:cNvPr id="365" name=""/>
            <p:cNvSpPr txBox="1"/>
            <p:nvPr/>
          </p:nvSpPr>
          <p:spPr>
            <a:xfrm>
              <a:off x="3132000" y="85428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995720" y="6303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7" name=""/>
          <p:cNvGraphicFramePr/>
          <p:nvPr/>
        </p:nvGraphicFramePr>
        <p:xfrm>
          <a:off x="2023920" y="2119320"/>
          <a:ext cx="4590720" cy="3909600"/>
        </p:xfrm>
        <a:graphic>
          <a:graphicData uri="http://schemas.openxmlformats.org/drawingml/2006/table">
            <a:tbl>
              <a:tblPr/>
              <a:tblGrid>
                <a:gridCol w="2295720"/>
                <a:gridCol w="229500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结果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加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和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减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差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积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除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商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方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幂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03160" y="1235160"/>
            <a:ext cx="6459480" cy="1101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762120" y="2311560"/>
            <a:ext cx="6103800" cy="3813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953760" y="2708280"/>
            <a:ext cx="11577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&gt;5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7080" y="2706840"/>
            <a:ext cx="1071720" cy="57924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240"/>
              <a:gd name="textAreaBottom" fmla="*/ 434520 h 57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156360" y="5172120"/>
            <a:ext cx="1776240" cy="904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902120" y="5354640"/>
            <a:ext cx="1071720" cy="57960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600"/>
              <a:gd name="textAreaBottom" fmla="*/ 434880 h 579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08280" y="236520"/>
            <a:ext cx="3519360" cy="1185840"/>
            <a:chOff x="2708280" y="236520"/>
            <a:chExt cx="3519360" cy="1185840"/>
          </a:xfrm>
        </p:grpSpPr>
        <p:pic>
          <p:nvPicPr>
            <p:cNvPr id="375" name="" descr=""/>
            <p:cNvPicPr/>
            <p:nvPr/>
          </p:nvPicPr>
          <p:blipFill>
            <a:blip r:embed="rId5"/>
            <a:stretch/>
          </p:blipFill>
          <p:spPr>
            <a:xfrm>
              <a:off x="5275080" y="23652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Cloud"/>
            <p:cNvSpPr/>
            <p:nvPr/>
          </p:nvSpPr>
          <p:spPr>
            <a:xfrm>
              <a:off x="2708280" y="23652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228840" y="38880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8128080" y="2620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2378160"/>
            <a:ext cx="80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一个大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越大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而一个小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就越小 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22600" y="995400"/>
            <a:ext cx="2770200" cy="947520"/>
            <a:chOff x="3522600" y="995400"/>
            <a:chExt cx="2770200" cy="947520"/>
          </a:xfrm>
        </p:grpSpPr>
        <p:sp>
          <p:nvSpPr>
            <p:cNvPr id="381" name=""/>
            <p:cNvSpPr txBox="1"/>
            <p:nvPr/>
          </p:nvSpPr>
          <p:spPr>
            <a:xfrm>
              <a:off x="3522600" y="1219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>
              <a:off x="5386320" y="9954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777080" y="509760"/>
            <a:ext cx="952560" cy="97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5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1066680" y="660240"/>
            <a:ext cx="6734160" cy="642600"/>
            <a:chOff x="1066680" y="660240"/>
            <a:chExt cx="6734160" cy="642600"/>
          </a:xfrm>
        </p:grpSpPr>
        <p:sp>
          <p:nvSpPr>
            <p:cNvPr id="385" name=""/>
            <p:cNvSpPr/>
            <p:nvPr/>
          </p:nvSpPr>
          <p:spPr>
            <a:xfrm>
              <a:off x="1066680" y="66024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用计算器计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5164200" y="660240"/>
              <a:ext cx="263664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1079640" y="1360440"/>
            <a:ext cx="6797520" cy="581400"/>
            <a:chOff x="1079640" y="1360440"/>
            <a:chExt cx="6797520" cy="581400"/>
          </a:xfrm>
        </p:grpSpPr>
        <p:sp>
          <p:nvSpPr>
            <p:cNvPr id="388" name=""/>
            <p:cNvSpPr/>
            <p:nvPr/>
          </p:nvSpPr>
          <p:spPr>
            <a:xfrm>
              <a:off x="1079640" y="1360440"/>
              <a:ext cx="67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解：用带符号键             的计算器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27400" y="1422360"/>
              <a:ext cx="114300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35760" y="1801800"/>
            <a:ext cx="3029040" cy="4648320"/>
            <a:chOff x="6035760" y="1801800"/>
            <a:chExt cx="3029040" cy="4648320"/>
          </a:xfrm>
        </p:grpSpPr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6035760" y="1801800"/>
              <a:ext cx="30290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774120" y="4608720"/>
              <a:ext cx="380880" cy="2286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023840" y="2190600"/>
            <a:ext cx="5039280" cy="581400"/>
            <a:chOff x="1023840" y="2190600"/>
            <a:chExt cx="5039280" cy="581400"/>
          </a:xfrm>
        </p:grpSpPr>
        <p:sp>
          <p:nvSpPr>
            <p:cNvPr id="394" name=""/>
            <p:cNvSpPr/>
            <p:nvPr/>
          </p:nvSpPr>
          <p:spPr>
            <a:xfrm>
              <a:off x="1595520" y="2249280"/>
              <a:ext cx="89856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23840" y="2249280"/>
              <a:ext cx="41112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04960" y="219060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56040" y="223668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8440" y="2249280"/>
              <a:ext cx="41112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2190600"/>
              <a:ext cx="16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531 441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988920" y="3784680"/>
            <a:ext cx="5018040" cy="685800"/>
            <a:chOff x="988920" y="3784680"/>
            <a:chExt cx="5018040" cy="685800"/>
          </a:xfrm>
        </p:grpSpPr>
        <p:sp>
          <p:nvSpPr>
            <p:cNvPr id="401" name=""/>
            <p:cNvSpPr/>
            <p:nvPr/>
          </p:nvSpPr>
          <p:spPr>
            <a:xfrm>
              <a:off x="1560240" y="3889080"/>
              <a:ext cx="89856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88920" y="3889080"/>
              <a:ext cx="41112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38000" y="378468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20760" y="389376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30240" y="3904920"/>
              <a:ext cx="41148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20920" y="38890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6807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343520" y="298620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75200" y="469728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1087560" y="5276880"/>
            <a:ext cx="2813040" cy="106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386000" y="1479600"/>
            <a:ext cx="46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计算器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417680" y="2338560"/>
            <a:ext cx="1557360" cy="349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18080" y="23954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2 144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00080" y="354636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79 9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00800" y="446724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 7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27360" y="53532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9 924.365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033560" y="514440"/>
            <a:ext cx="2620440" cy="852480"/>
            <a:chOff x="1033560" y="514440"/>
            <a:chExt cx="2620440" cy="852480"/>
          </a:xfrm>
        </p:grpSpPr>
        <p:sp>
          <p:nvSpPr>
            <p:cNvPr id="417" name=""/>
            <p:cNvSpPr/>
            <p:nvPr/>
          </p:nvSpPr>
          <p:spPr>
            <a:xfrm>
              <a:off x="1501560" y="573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3"/>
            <a:stretch/>
          </p:blipFill>
          <p:spPr>
            <a:xfrm>
              <a:off x="1033560" y="514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6215040" y="1886040"/>
            <a:ext cx="1647720" cy="3467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481640" y="24768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11360" y="1060560"/>
            <a:ext cx="773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这个式子中，存在哪几种计算？这道题按什么顺序计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9280" y="2612880"/>
            <a:ext cx="804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存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乘方的运算．根据前面学过的有理数的加减乘除混合运算法则，我们应该“先乘除，后加减”来计算这个式子．那么乘方的运算顺序我们又是怎么规定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728720" y="5468760"/>
            <a:ext cx="5600880" cy="793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42840" y="2136600"/>
            <a:ext cx="723924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，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30440" y="885960"/>
            <a:ext cx="3838680" cy="782640"/>
            <a:chOff x="2530440" y="885960"/>
            <a:chExt cx="3838680" cy="78264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369040" y="885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530440" y="99900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7419960" y="493560"/>
            <a:ext cx="1523880" cy="12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147680" y="8445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计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1147680" y="1633680"/>
            <a:ext cx="7005600" cy="7077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249200" y="2766960"/>
            <a:ext cx="7005960" cy="2416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71520" y="4754520"/>
            <a:ext cx="2085840" cy="1374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324080" y="86688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387440" y="1881360"/>
            <a:ext cx="7292880" cy="23158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402912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4288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6996240" y="847800"/>
            <a:ext cx="1392120" cy="1414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714680" y="798480"/>
            <a:ext cx="5086080" cy="5048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514840" y="3305160"/>
            <a:ext cx="1967040" cy="2112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481040" y="415800"/>
            <a:ext cx="6004080" cy="6004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372280" y="4614840"/>
            <a:ext cx="1169640" cy="1170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27000" y="563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观察下面三行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28800" y="1332000"/>
            <a:ext cx="7950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2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8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3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8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55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0840" y="3133800"/>
            <a:ext cx="815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①行数按什么规律排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② ③行数与第①行数分别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取每行数的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数，计算这三个数的和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8028000" y="376200"/>
            <a:ext cx="608040" cy="752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54200" y="495360"/>
            <a:ext cx="821196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：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第①行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对比①②两行中位置对应的数，将会发现第②行数是第①行相应的数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比①③两行中位置对应的数，将会发现第③行数是第①行对应的数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倍再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7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7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723960" y="1487520"/>
            <a:ext cx="8163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每行数中的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数的和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]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9 68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9 36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78 728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600440" y="5394240"/>
            <a:ext cx="2271960" cy="941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08160" y="3432240"/>
            <a:ext cx="939600" cy="107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1908000" y="274572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498680" y="435096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147400" y="3970440"/>
            <a:ext cx="8384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61960" y="2293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81080" y="5037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6200" y="371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65520" y="2832120"/>
            <a:ext cx="497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负数的奇次幂是负数，负数的偶次幂是正数． 正数的任何次幂都是正数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任何次幂都是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47760" y="76320"/>
            <a:ext cx="2849400" cy="1709640"/>
            <a:chOff x="3047760" y="76320"/>
            <a:chExt cx="2849400" cy="1709640"/>
          </a:xfrm>
        </p:grpSpPr>
        <p:sp>
          <p:nvSpPr>
            <p:cNvPr id="458" name="filecab3"/>
            <p:cNvSpPr/>
            <p:nvPr/>
          </p:nvSpPr>
          <p:spPr>
            <a:xfrm rot="10800000">
              <a:off x="3047760" y="9475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3665520" y="7632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7243920" y="247680"/>
            <a:ext cx="1400040" cy="1247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157400" y="1884240"/>
            <a:ext cx="723888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157400" y="922320"/>
            <a:ext cx="7507080" cy="57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847800" y="1658520"/>
            <a:ext cx="782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下列各式写成乘方运算的形式，并指出底数，指数各是多少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44560" y="2666880"/>
            <a:ext cx="7645320" cy="1690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87400" y="4272120"/>
            <a:ext cx="4595760" cy="88092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1010880" y="5138640"/>
            <a:ext cx="4248360" cy="947160"/>
            <a:chOff x="1010880" y="5138640"/>
            <a:chExt cx="4248360" cy="947160"/>
          </a:xfrm>
        </p:grpSpPr>
        <p:sp>
          <p:nvSpPr>
            <p:cNvPr id="467" name=""/>
            <p:cNvSpPr/>
            <p:nvPr/>
          </p:nvSpPr>
          <p:spPr>
            <a:xfrm>
              <a:off x="1010880" y="5138640"/>
              <a:ext cx="42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底数分别为：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指数分别为：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000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3549240" y="5138640"/>
              <a:ext cx="1614600" cy="61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968200" y="-136440"/>
            <a:ext cx="2849400" cy="1709640"/>
            <a:chOff x="2968200" y="-136440"/>
            <a:chExt cx="2849400" cy="1709640"/>
          </a:xfrm>
        </p:grpSpPr>
        <p:sp>
          <p:nvSpPr>
            <p:cNvPr id="470" name="filecab3"/>
            <p:cNvSpPr/>
            <p:nvPr/>
          </p:nvSpPr>
          <p:spPr>
            <a:xfrm rot="10800000">
              <a:off x="2968200" y="7347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71" name="" descr=""/>
            <p:cNvPicPr/>
            <p:nvPr/>
          </p:nvPicPr>
          <p:blipFill>
            <a:blip r:embed="rId5"/>
            <a:stretch/>
          </p:blipFill>
          <p:spPr>
            <a:xfrm>
              <a:off x="3585960" y="-1364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6243480" y="4025880"/>
            <a:ext cx="1414800" cy="136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79600" y="1054080"/>
            <a:ext cx="8321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一个数的偶次幂是正数，那么这个数是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正数    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负数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理数    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有理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&lt;a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绝对值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大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小于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95360" y="1811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10320" y="369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517400" y="763560"/>
            <a:ext cx="6405840" cy="838080"/>
            <a:chOff x="1517400" y="763560"/>
            <a:chExt cx="6405840" cy="838080"/>
          </a:xfrm>
        </p:grpSpPr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3059280" y="763560"/>
              <a:ext cx="48639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517400" y="893520"/>
              <a:ext cx="14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计算：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1560600" y="1803240"/>
            <a:ext cx="5979960" cy="3897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4710240" y="4191120"/>
            <a:ext cx="1776240" cy="177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4040" y="600120"/>
            <a:ext cx="77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边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形的面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1040" y="2255760"/>
            <a:ext cx="78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棱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体的体积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13860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9862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52120" y="4410000"/>
            <a:ext cx="1219680" cy="1700640"/>
            <a:chOff x="1752120" y="4410000"/>
            <a:chExt cx="1219680" cy="1700640"/>
          </a:xfrm>
        </p:grpSpPr>
        <p:sp>
          <p:nvSpPr>
            <p:cNvPr id="94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5240" y="58294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752120" y="58294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87840" y="4172040"/>
            <a:ext cx="1600200" cy="2113200"/>
            <a:chOff x="4587840" y="4172040"/>
            <a:chExt cx="1600200" cy="2113200"/>
          </a:xfrm>
        </p:grpSpPr>
        <p:sp>
          <p:nvSpPr>
            <p:cNvPr id="101" name=""/>
            <p:cNvSpPr/>
            <p:nvPr/>
          </p:nvSpPr>
          <p:spPr>
            <a:xfrm>
              <a:off x="4587840" y="417204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0280" y="57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8880" y="570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432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8484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1828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9432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11960" y="322884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92080" y="919080"/>
            <a:ext cx="81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28800" y="2255760"/>
            <a:ext cx="8200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＝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5095800" y="4986360"/>
            <a:ext cx="933480" cy="1222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018800"/>
            <a:ext cx="7773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形的边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,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则面积是多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体的棱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，则正方体的体积为多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0120" y="1479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0120" y="317340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2120" y="4410000"/>
            <a:ext cx="1219680" cy="1700640"/>
            <a:chOff x="1752120" y="4410000"/>
            <a:chExt cx="1219680" cy="1700640"/>
          </a:xfrm>
        </p:grpSpPr>
        <p:sp>
          <p:nvSpPr>
            <p:cNvPr id="113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5240" y="58294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752120" y="58294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87840" y="4172040"/>
            <a:ext cx="1600200" cy="2081520"/>
            <a:chOff x="4587840" y="4172040"/>
            <a:chExt cx="1600200" cy="2081520"/>
          </a:xfrm>
        </p:grpSpPr>
        <p:sp>
          <p:nvSpPr>
            <p:cNvPr id="120" name=""/>
            <p:cNvSpPr/>
            <p:nvPr/>
          </p:nvSpPr>
          <p:spPr>
            <a:xfrm>
              <a:off x="4587840" y="417204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15880" y="5672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9432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484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828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59432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440480" y="381960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6040" y="1014480"/>
            <a:ext cx="410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840" y="1230480"/>
            <a:ext cx="1155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胞分裂示意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3080" y="2803680"/>
            <a:ext cx="745920" cy="609480"/>
            <a:chOff x="1243080" y="2803680"/>
            <a:chExt cx="745920" cy="609480"/>
          </a:xfrm>
        </p:grpSpPr>
        <p:sp>
          <p:nvSpPr>
            <p:cNvPr id="130" name=""/>
            <p:cNvSpPr/>
            <p:nvPr/>
          </p:nvSpPr>
          <p:spPr>
            <a:xfrm>
              <a:off x="1243080" y="2803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7120" y="29671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2600" y="48704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5840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9680" y="6270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86120" y="1392120"/>
            <a:ext cx="745920" cy="609480"/>
            <a:chOff x="2886120" y="1392120"/>
            <a:chExt cx="745920" cy="609480"/>
          </a:xfrm>
        </p:grpSpPr>
        <p:sp>
          <p:nvSpPr>
            <p:cNvPr id="136" name=""/>
            <p:cNvSpPr/>
            <p:nvPr/>
          </p:nvSpPr>
          <p:spPr>
            <a:xfrm>
              <a:off x="2886120" y="139212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70160" y="155556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86120" y="4119480"/>
            <a:ext cx="745920" cy="609480"/>
            <a:chOff x="2886120" y="4119480"/>
            <a:chExt cx="745920" cy="609480"/>
          </a:xfrm>
        </p:grpSpPr>
        <p:sp>
          <p:nvSpPr>
            <p:cNvPr id="139" name=""/>
            <p:cNvSpPr/>
            <p:nvPr/>
          </p:nvSpPr>
          <p:spPr>
            <a:xfrm>
              <a:off x="2886120" y="41194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70160" y="42829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8920" y="5191200"/>
            <a:ext cx="745920" cy="609480"/>
            <a:chOff x="4498920" y="5191200"/>
            <a:chExt cx="745920" cy="609480"/>
          </a:xfrm>
        </p:grpSpPr>
        <p:sp>
          <p:nvSpPr>
            <p:cNvPr id="142" name=""/>
            <p:cNvSpPr/>
            <p:nvPr/>
          </p:nvSpPr>
          <p:spPr>
            <a:xfrm>
              <a:off x="4498920" y="519120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82960" y="5354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32400" y="3633840"/>
            <a:ext cx="745920" cy="609480"/>
            <a:chOff x="4532400" y="3633840"/>
            <a:chExt cx="745920" cy="609480"/>
          </a:xfrm>
        </p:grpSpPr>
        <p:sp>
          <p:nvSpPr>
            <p:cNvPr id="145" name=""/>
            <p:cNvSpPr/>
            <p:nvPr/>
          </p:nvSpPr>
          <p:spPr>
            <a:xfrm>
              <a:off x="4532400" y="3633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16440" y="3797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503600" y="1992240"/>
            <a:ext cx="745920" cy="609480"/>
            <a:chOff x="4503600" y="1992240"/>
            <a:chExt cx="745920" cy="609480"/>
          </a:xfrm>
        </p:grpSpPr>
        <p:sp>
          <p:nvSpPr>
            <p:cNvPr id="148" name=""/>
            <p:cNvSpPr/>
            <p:nvPr/>
          </p:nvSpPr>
          <p:spPr>
            <a:xfrm>
              <a:off x="4503600" y="19922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7640" y="21556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37000" y="568440"/>
            <a:ext cx="745920" cy="609480"/>
            <a:chOff x="4437000" y="568440"/>
            <a:chExt cx="745920" cy="609480"/>
          </a:xfrm>
        </p:grpSpPr>
        <p:sp>
          <p:nvSpPr>
            <p:cNvPr id="151" name=""/>
            <p:cNvSpPr/>
            <p:nvPr/>
          </p:nvSpPr>
          <p:spPr>
            <a:xfrm>
              <a:off x="4437000" y="5684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040" y="7318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192720" y="3170160"/>
            <a:ext cx="745920" cy="609480"/>
            <a:chOff x="6192720" y="3170160"/>
            <a:chExt cx="745920" cy="609480"/>
          </a:xfrm>
        </p:grpSpPr>
        <p:sp>
          <p:nvSpPr>
            <p:cNvPr id="154" name=""/>
            <p:cNvSpPr/>
            <p:nvPr/>
          </p:nvSpPr>
          <p:spPr>
            <a:xfrm>
              <a:off x="6192720" y="317016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6760" y="33336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62840" y="2452680"/>
            <a:ext cx="745920" cy="609480"/>
            <a:chOff x="6162840" y="2452680"/>
            <a:chExt cx="745920" cy="609480"/>
          </a:xfrm>
        </p:grpSpPr>
        <p:sp>
          <p:nvSpPr>
            <p:cNvPr id="157" name=""/>
            <p:cNvSpPr/>
            <p:nvPr/>
          </p:nvSpPr>
          <p:spPr>
            <a:xfrm>
              <a:off x="6162840" y="2452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46880" y="26161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92720" y="4824360"/>
            <a:ext cx="745920" cy="609480"/>
            <a:chOff x="6192720" y="4824360"/>
            <a:chExt cx="745920" cy="609480"/>
          </a:xfrm>
        </p:grpSpPr>
        <p:sp>
          <p:nvSpPr>
            <p:cNvPr id="160" name=""/>
            <p:cNvSpPr/>
            <p:nvPr/>
          </p:nvSpPr>
          <p:spPr>
            <a:xfrm>
              <a:off x="6192720" y="482436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6760" y="49878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192720" y="1658880"/>
            <a:ext cx="745920" cy="609480"/>
            <a:chOff x="6192720" y="1658880"/>
            <a:chExt cx="745920" cy="609480"/>
          </a:xfrm>
        </p:grpSpPr>
        <p:sp>
          <p:nvSpPr>
            <p:cNvPr id="163" name=""/>
            <p:cNvSpPr/>
            <p:nvPr/>
          </p:nvSpPr>
          <p:spPr>
            <a:xfrm>
              <a:off x="6192720" y="16588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6760" y="18223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62840" y="863640"/>
            <a:ext cx="745920" cy="609480"/>
            <a:chOff x="6162840" y="863640"/>
            <a:chExt cx="745920" cy="609480"/>
          </a:xfrm>
        </p:grpSpPr>
        <p:sp>
          <p:nvSpPr>
            <p:cNvPr id="166" name=""/>
            <p:cNvSpPr/>
            <p:nvPr/>
          </p:nvSpPr>
          <p:spPr>
            <a:xfrm>
              <a:off x="6162840" y="8636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6880" y="10270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21440" y="42840"/>
            <a:ext cx="745920" cy="609480"/>
            <a:chOff x="6121440" y="42840"/>
            <a:chExt cx="745920" cy="609480"/>
          </a:xfrm>
        </p:grpSpPr>
        <p:sp>
          <p:nvSpPr>
            <p:cNvPr id="169" name=""/>
            <p:cNvSpPr/>
            <p:nvPr/>
          </p:nvSpPr>
          <p:spPr>
            <a:xfrm>
              <a:off x="6121440" y="42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5480" y="206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4102200"/>
            <a:ext cx="745920" cy="609480"/>
            <a:chOff x="6192720" y="4102200"/>
            <a:chExt cx="745920" cy="609480"/>
          </a:xfrm>
        </p:grpSpPr>
        <p:sp>
          <p:nvSpPr>
            <p:cNvPr id="172" name=""/>
            <p:cNvSpPr/>
            <p:nvPr/>
          </p:nvSpPr>
          <p:spPr>
            <a:xfrm>
              <a:off x="6192720" y="410220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6760" y="4265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192720" y="5676840"/>
            <a:ext cx="745920" cy="609480"/>
            <a:chOff x="6192720" y="5676840"/>
            <a:chExt cx="745920" cy="609480"/>
          </a:xfrm>
        </p:grpSpPr>
        <p:sp>
          <p:nvSpPr>
            <p:cNvPr id="175" name=""/>
            <p:cNvSpPr/>
            <p:nvPr/>
          </p:nvSpPr>
          <p:spPr>
            <a:xfrm>
              <a:off x="6192720" y="5676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6760" y="5840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89000" y="1714320"/>
            <a:ext cx="897120" cy="2692080"/>
            <a:chOff x="1989000" y="1714320"/>
            <a:chExt cx="897120" cy="2692080"/>
          </a:xfrm>
        </p:grpSpPr>
        <p:sp>
          <p:nvSpPr>
            <p:cNvPr id="178" name=""/>
            <p:cNvSpPr/>
            <p:nvPr/>
          </p:nvSpPr>
          <p:spPr>
            <a:xfrm flipV="1">
              <a:off x="1989000" y="1714320"/>
              <a:ext cx="89712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9000" y="3058920"/>
              <a:ext cx="89712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3632040" y="4101840"/>
            <a:ext cx="900360" cy="384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2040" y="4486320"/>
            <a:ext cx="804960" cy="868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632040" y="1026720"/>
            <a:ext cx="804960" cy="528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2040" y="1555920"/>
            <a:ext cx="804960" cy="599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83280" y="409320"/>
            <a:ext cx="938160" cy="330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3280" y="731880"/>
            <a:ext cx="938160" cy="358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78320" y="1991880"/>
            <a:ext cx="914400" cy="276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78320" y="2268360"/>
            <a:ext cx="843120" cy="535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78320" y="3537000"/>
            <a:ext cx="884520" cy="463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5200" y="4000680"/>
            <a:ext cx="917640" cy="29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245200" y="5191200"/>
            <a:ext cx="917640" cy="366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78320" y="5557680"/>
            <a:ext cx="884520" cy="486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9000" y="73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0120" y="16588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3240" y="8874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6360" y="40086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0120" y="31701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56360" y="24526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3240" y="48243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0120" y="5707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90680" y="5354640"/>
            <a:ext cx="1036440" cy="81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19240" y="12254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细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分裂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经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这种细胞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能分裂成多少个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03400" y="3235320"/>
            <a:ext cx="4797360" cy="1544760"/>
            <a:chOff x="2003400" y="3235320"/>
            <a:chExt cx="4797360" cy="1544760"/>
          </a:xfrm>
        </p:grpSpPr>
        <p:sp>
          <p:nvSpPr>
            <p:cNvPr id="203" name=""/>
            <p:cNvSpPr/>
            <p:nvPr/>
          </p:nvSpPr>
          <p:spPr>
            <a:xfrm>
              <a:off x="2003400" y="3235320"/>
              <a:ext cx="47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2×2×·······×2×2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5040" y="4198680"/>
              <a:ext cx="16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个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3908160" y="2103120"/>
              <a:ext cx="317520" cy="37530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97560 h 3753000"/>
                <a:gd name="textAreaBottom" fmla="*/ 3655440 h 37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38"/>
                  </a:lnTo>
                  <a:cubicBezTo>
                    <a:pt x="10800" y="10238"/>
                    <a:pt x="5400" y="11138"/>
                    <a:pt x="0" y="11138"/>
                  </a:cubicBezTo>
                  <a:cubicBezTo>
                    <a:pt x="5400" y="11138"/>
                    <a:pt x="10800" y="12038"/>
                    <a:pt x="10800" y="129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00480" y="5248440"/>
            <a:ext cx="3486240" cy="952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1424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170840" y="3390840"/>
            <a:ext cx="1415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723960" y="4403880"/>
            <a:ext cx="3619440" cy="1465200"/>
            <a:chOff x="723960" y="4403880"/>
            <a:chExt cx="3619440" cy="1465200"/>
          </a:xfrm>
        </p:grpSpPr>
        <p:sp>
          <p:nvSpPr>
            <p:cNvPr id="210" name=""/>
            <p:cNvSpPr/>
            <p:nvPr/>
          </p:nvSpPr>
          <p:spPr>
            <a:xfrm>
              <a:off x="723960" y="4403880"/>
              <a:ext cx="361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×2×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×2×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220840" y="3517560"/>
              <a:ext cx="304560" cy="2990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7760 h 2990520"/>
                <a:gd name="textAreaBottom" fmla="*/ 2912760 h 29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60480" y="5165640"/>
              <a:ext cx="158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871d78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48080" y="51444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4040" y="579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19160" y="1494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3605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18800" y="33987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68560" y="4405320"/>
            <a:ext cx="527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345600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245916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5600" y="1522440"/>
            <a:ext cx="65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05440" y="5432400"/>
            <a:ext cx="2952720" cy="61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12720" y="2008080"/>
            <a:ext cx="6797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般地，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相同因数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相乘，即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记作：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zh-CN" sz="32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读作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次方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47640" y="3025800"/>
            <a:ext cx="4876920" cy="1619280"/>
            <a:chOff x="1547640" y="3025800"/>
            <a:chExt cx="4876920" cy="1619280"/>
          </a:xfrm>
        </p:grpSpPr>
        <p:sp>
          <p:nvSpPr>
            <p:cNvPr id="225" name=""/>
            <p:cNvSpPr/>
            <p:nvPr/>
          </p:nvSpPr>
          <p:spPr>
            <a:xfrm>
              <a:off x="1547640" y="302580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602520" y="1795680"/>
              <a:ext cx="176040" cy="4114800"/>
            </a:xfrm>
            <a:custGeom>
              <a:avLst/>
              <a:gdLst>
                <a:gd name="textAreaLeft" fmla="*/ 112680 w 176040"/>
                <a:gd name="textAreaRight" fmla="*/ 176400 w 17604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120" y="39416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19440" y="700200"/>
            <a:ext cx="3838680" cy="782640"/>
            <a:chOff x="2719440" y="700200"/>
            <a:chExt cx="3838680" cy="78264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558040" y="7002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719440" y="8132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843600" y="3327480"/>
            <a:ext cx="1543320" cy="14745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28T14:35:50Z</dcterms:modified>
  <cp:revision>93</cp:revision>
  <dc:subject/>
  <dc:title>1.5.1有理数的乘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90000000000010250600207f7000400038000</vt:lpwstr>
  </property>
  <property fmtid="{D5CDD505-2E9C-101B-9397-08002B2CF9AE}" pid="3" name="Version">
    <vt:r8>1</vt:r8>
  </property>
</Properties>
</file>